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ABEB-7932-455B-8E13-74F01AA6FF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FEB1-D9A3-4F1B-9067-F0362847D1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BF74-621B-4203-A019-5620DA0F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9BE7-8375-4D51-A28D-C1200140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325A-24AD-4682-BBFB-C1AA0E6F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2467-64F3-44A8-B63C-8C902FBA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E90D-02CC-4775-AE3E-7CC67B0C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A3B9-D06E-4849-9265-CAA6FEBC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40D1-4774-4F21-B37F-730322E5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FB7A-E8A4-466E-9347-38622EED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5A75-70A1-4523-9034-C196E997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7C49-45D8-434A-9443-D11ED35D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1886-16E8-42D1-830A-C22961C9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8579-1BBF-4887-905A-404E08E0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842C-A349-4ED9-9430-06B7A2D5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81F1-BB81-44F4-8286-8C23F89B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70BC-A9FA-4B75-8BDF-3598C7BA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289C-3D97-4757-9A3B-238DB846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5C7E-453C-4731-85A3-444F39DA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6D77C-B616-415F-A0AB-D79D4D73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378F0-8CC3-430C-950F-30165B68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4972F-5471-4084-B06B-A620145B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F9EC0-5A7C-4902-AB49-A9424F21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BFEA2-3CE4-4CAB-AF5B-853DEDCE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E3DD-1AF7-42F9-ACB7-E0336451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33AB3-FFFF-4A99-B17F-24CF4E2D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8721B-AF20-4FD5-A595-692C329E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6E564-DDEF-4112-BB49-FA9F0C01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F797E-B020-454A-8353-F0214515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04C3A-CD61-4059-8086-D4AE12EC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E16AF-5EFA-4E9A-8B64-F13896AD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47FA9-647F-4C49-8B49-3C47176D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F6B00-E229-4EAE-9890-6E147472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83D57-B141-41E4-A2F3-EB7D1640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2F394-9B3E-4A9E-9F58-1FE4B731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014A-8E99-4B82-8120-7692BB25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27557-803E-4929-8B58-E893E9BE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3F7BC-5A50-4994-BFD9-9D88F1CE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7A39D-98CA-4270-B322-2E4533FC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31390-5801-4588-AF88-921C1078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8B56E-C774-41A3-B8B2-2F77A662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3EE20-21DD-47F0-AE15-A9362821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39638-43CE-4064-961B-A7041732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89726-511F-48CB-BDDB-627F6790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919CE-F564-45D2-88AE-28885FC5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BDE7-3F7B-47DD-B58D-D3C66899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21A4-4172-4F30-B274-4BDE0409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B95F-913E-4DFF-AAC0-50797256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DD05-5DB8-411A-AACF-03BD8498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69B6-3EDE-4C78-99A5-FCAD9922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98b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b2cd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21b2c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F3FD-674B-423F-98B0-ABAE2F5E2A7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98b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b2cd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21b2c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2C8B-74F5-4667-8B1E-E367FC588CF7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98b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b2cd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21b2c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CDC2-C474-4A1D-979D-1321B40767DC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98b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b2cd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21b2c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866B-A082-40C6-9E18-19782309215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ГОСУДАРСТВЕННОЕ БЮДЖЕТНОЕ ОБРАЗОВАТЕЛЬНОЕ УЧРЕЖДЕНИЕ ДОПОЛНИТЕЛЬНОГО ПРОФЕССИОНАЛЬНОГО ОБРАЗОВАНИЯ РЕСПУБЛИКИ КРЫМ «КРЫМСКИЙ РЕСПУБЛИКАНСКИЙ ИНСТИТУТ ПОСТДИПЛОМНОГО ПЕДАГОГИЧЕСКОГО ОБРАЗОВАНИЯ»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илева Э.Ф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ст центра развития дошкольного и начального образования   КРИППО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ферополь-202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42800" y="2039760"/>
            <a:ext cx="8064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767160"/>
            <a:ext cx="8229600" cy="59580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030a0"/>
              </a:solidFill>
              <a:latin typeface="Times New Roman"/>
              <a:ea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8360" y="333360"/>
            <a:ext cx="8229600" cy="619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уреат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а «Воспитатель года России» в 2020 году стал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‒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женица Антонина Сергеевна, воспитатель МБДО города Керчи Республики Крым «Детский сад комбинированного вида №54 «Калина»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‒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хтарова Незире Ремзиевна, воспитатель МБОУ «Дачновская средняя общеобразовательная школа» городского округа Судак детский сад «Капитошка»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‒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ицкая Людмила Эдуардовна, воспитатель МДОУ города Джанкоя Республики Крым «Детский сад №16 «Ручеек»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‒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пак Ирина Леонидовна, воспитатель МБДОУ «Детский сад «Дружба» села Скалистое Бахчисарайского района Республики Кры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‒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ребель Людмила Александровна, воспитатель МБДОУ «Детский сад №13 «Светлячок» города Саки Республики Кры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680" y="-695880"/>
            <a:ext cx="8229600" cy="59580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030a0"/>
              </a:solidFill>
              <a:latin typeface="Times New Roman"/>
              <a:ea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8360" y="333000"/>
            <a:ext cx="8207280" cy="62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«Школа здоровья для маленьких  крымчан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Цель конкурса :сохранение и укрепление здоровья детей дошкольного возраста, активизация физкультурно-оздоровительной работы в дошкольных образовательных организация РК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-921960"/>
            <a:ext cx="8229600" cy="53460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4617b"/>
              </a:solidFill>
              <a:latin typeface="Times New Roman"/>
              <a:ea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бедитель конкурса дошкольных образовательных учреждений Республики Крым «Школа здоровья для маленьких крымчан» в 2020 году в категории дошкольные образовательные организации городских округов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БДОУ «Детский сад общеразвивающего вида №103 «Аврора» муниципального образования городской округ Симферополь Республики Кры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бедитель конкурса дошкольных образовательных учреждений Республики Крым «Школа здоровья для маленьких крымчан» в 2020 году в категории дошкольные образовательные организации муниципальных районов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БОУ «Уваровская средняя общеобразовательная школа-детский сад» Нижнегорского района Республики Кры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760" y="-850680"/>
            <a:ext cx="8229600" cy="53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7f7f7f"/>
              </a:solidFill>
              <a:latin typeface="Times New Roman"/>
              <a:ea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47592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ерами Конкурса в категории дошкольные образовательные организации городских округов признаны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«Детский сад № 29 «Чебурашка» города Евпатории Республики Крым ‒ 2 место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«Детский сад №3 «Березка» города Армянска Республики Крым ‒ 3 мест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ерами Конкурса в категории дошкольны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 организации муниципальных районов признаны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«Детский сад «Золотой ключик» с. Мирное» Симферопольского района Республики Крым ‒ 2 место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«Первомайский детский сад №2 «Родничок» Первомайского района Республики Крым» ‒ 3 мест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2443320" y="966960"/>
            <a:ext cx="4257360" cy="49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110484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4617b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39640" y="907920"/>
          <a:ext cx="8104320" cy="4778640"/>
        </p:xfrm>
        <a:graphic>
          <a:graphicData uri="http://schemas.openxmlformats.org/drawingml/2006/table">
            <a:tbl>
              <a:tblPr/>
              <a:tblGrid>
                <a:gridCol w="218880"/>
                <a:gridCol w="7666560"/>
                <a:gridCol w="218880"/>
              </a:tblGrid>
              <a:tr h="477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ФЕДЕРАЛЬНЫЙ ЗАКОН ОТ 31 ИЮЛЯ 2020 Г.           N 304-ФЗ "О ВНЕСЕНИИ ИЗМЕНЕНИЙ В ФЕДЕРАЛЬНЫЙ ЗАКОН "ОБ ОБРАЗОВАНИИ В РОССИЙСКОЙ ФЕДЕРАЦИИ" ПО ВОПРОСАМ ВОСПИТАНИЯ ОБУЧАЮЩИХСЯ"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767160"/>
            <a:ext cx="8229600" cy="59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4360" y="1699920"/>
            <a:ext cx="7991280" cy="381636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АЛЬНАЯ ПАРЦИАЛЬНАЯ  ПРОГРАММА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РАЖДАНСКО-ПАТРИОТИЧЕСКОМУ ВОСПИТАНИЮ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ДОШКОЛЬНОГО ВОЗРАСТА В КРЫМУ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Крымский веночек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777600"/>
            <a:ext cx="8229600" cy="53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9640" y="836640"/>
            <a:ext cx="8229600" cy="568656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Феодоси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е программа по гражданско-патриотическому воспитанию детей дошкольного возраста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еодосия на ладошках»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феропольский  район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е программа по гражданско-патриотическому воспитанию детей дошкольного возраст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«Маленький гражданин Симферопольского  района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1747800"/>
            <a:ext cx="8229600" cy="46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У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х  работников  дошкольны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х организаци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и Кры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сентября 202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ГОСУДАРСТВЕННОЕ БЮДЖЕТНОЕ ОБРАЗОВАТЕЛЬНОЕ УЧРЕЖДЕНИЕ ДОПОЛНИТЕЛЬНОГО ПРОФЕССИОНАЛЬНОГО ОБРАЗОВАНИЯ РЕСПУБЛИКИ КРЫМ «КРЫМСКИЙ РЕСПУБЛИКАНСКИЙ ИНСТИТУТ ПОСТДИПЛОМНОГО ПЕДАГОГИЧЕСКОГО ОБРАЗОВАНИЯ»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илева Э.Ф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ст центра развития дошкольного и начального образования   КРИППО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ферополь-202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442800" y="2039760"/>
            <a:ext cx="8064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595800"/>
            <a:ext cx="8229600" cy="59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4617b"/>
              </a:solidFill>
              <a:latin typeface="Times New Roman"/>
              <a:ea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404640"/>
            <a:ext cx="8229600" cy="591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офессиональное взаимодействие - важнейшее звено системы непрерывного педагогического образо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заимодействие методистов всех уровн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рганизованная система совместных действий, обеспечивающая функционирование, создание условий для оптимального профессионального развития педагогических кадров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755640" y="0"/>
            <a:ext cx="8064360" cy="1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-899640"/>
            <a:ext cx="8229600" cy="656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4617b"/>
              </a:solidFill>
              <a:latin typeface="Times New Roman"/>
              <a:ea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0920" y="549000"/>
            <a:ext cx="8424720" cy="583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ьная   республиканская модель методической работы - интеграция  всех уровней методическог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провождения  педагогов ДОО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трисадовы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г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ьног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:совершенствование профессионального мастерства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ДОО действуют  методические  объединени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всех  категорий  педагогических работников ДОО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1188360"/>
            <a:ext cx="8229600" cy="656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1052640" y="1170000"/>
            <a:ext cx="70387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691920"/>
            <a:ext cx="8229600" cy="563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фестиваля: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и продвижение региональных педагогических инициатив и инноваций в поддержку конкурентоспособности российского образования, публичная демонстрация эффективных образовательных практик крымских педагогов и формирование позитивного отношения к педагогическим инновация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школа - лучшая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м воспитывая, воспитываем обуча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стречу PISA и TIMS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альный компонент в крымском образован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98028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47592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19 года в Республике Крым функционирует 16 ресурсных центров на базе дошкольных образовательных учреждений гг. Евпатории, Керчи, Красноперекопска, Симферополя, Феодосии, Саки, Ялты, а также Бахчисарайского, Джанкойского, Красногвардейского и Симферопольского районов (приказы Министерства образования, науки и молодежи Республики Крым от 06.09.2016 №3183 и от 20.02.2019 №32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5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оответствии с приказом Федерального государственного бюджетного научного учреждения «Институт изучения детства, семьи и воспитания Российской Академии Образования» от 04.09.2018г. № 25/17-4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своен статус инновационных площад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 апробации и внедрению парциальной модульной программы «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TE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образование детей дошкольного и младшего школьного возраста» десяти дошкольным образовательным организациям, осуществляющим деятельность в сфере образования Республики Кры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838800"/>
            <a:ext cx="8229600" cy="59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030a0"/>
              </a:solidFill>
              <a:latin typeface="Times New Roman"/>
              <a:ea typeface="Times New Roman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1581120" y="476280"/>
            <a:ext cx="584856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1260000"/>
            <a:ext cx="8229600" cy="6566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95280" y="404280"/>
            <a:ext cx="8229600" cy="568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</a:t>
            </a:r>
            <a:r>
              <a:rPr b="0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БЕДИТЕЛЬ</a:t>
            </a: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егионального этапа Конкурс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спитатель МБДОУ «Детский сад «Солнышко» с. Мирное» Симферопольского района Республик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анданова Севиля Аблякимовн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-838800"/>
            <a:ext cx="8353440" cy="59580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030a0"/>
              </a:solidFill>
              <a:latin typeface="Times New Roman"/>
              <a:ea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8000" y="404640"/>
            <a:ext cx="8258040" cy="583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Финалист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нкурса в 2020 году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‒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сипова Ирина Николаевна, воспитатель МБДОУ «Детский сад №19 «Солнышко» муниципального образования городской округ Ялта Республики Крым, финалист I степен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‒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анус Екатерина Сергеевна, инструктор по физической культуре МБДОУ «Детский сад №11 «Сказка» г. Феодосии Республики Крым», финалист II степен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‒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уденко Марина Валериевна, музыкальный руководитель МБДОУ «Детский сад общеразвивающего типа №107 «Боровичок» муниципального образования городской округ Симферополь Республики Крым, финалист III степен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‒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гапитова Лариса Петровна, воспитатель муниципального бюджетного дошкольного образовательного учреждения МБДОУ «Детский сад №20 имени 1 Мая города Евпатории Республики Крым», финалист IV степен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04:55:07Z</dcterms:created>
  <dc:creator>User</dc:creator>
  <dc:description/>
  <dc:language>en-US</dc:language>
  <cp:lastModifiedBy>Эльвина</cp:lastModifiedBy>
  <dcterms:modified xsi:type="dcterms:W3CDTF">2020-08-26T19:10:30Z</dcterms:modified>
  <cp:revision>296</cp:revision>
  <dc:subject/>
  <dc:title>Федеральный государственный образовательный стандарт дошкольного  образования</dc:title>
</cp:coreProperties>
</file>